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6CD-C278-464F-BC94-DC131632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1105-09C9-4DD1-A1CB-AE163AA4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004-32A3-4D96-8D5C-40110C8C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8F7-CF14-4B3A-AAC6-FE743FA8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BCDE-301B-4BFC-81C0-717573B5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39E8-FF66-42CE-9F58-8D37E939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DE8E-0FC9-4855-B7C0-7D1457A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3261-DF24-499F-99E4-B18587E3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18B1-175A-44FB-AF1B-E9E940BA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2AD2-E836-4B4E-A5BF-B2AD731A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C2E9-974A-495E-B63A-39157B35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700D-652E-45A7-9091-B160AF47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6D80-7FC6-4FD4-A252-8DFEAD60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6552-6892-4F57-8184-516C7C9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DEDF2-99E5-4AA6-B20A-5900DA301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86D-D5B3-475B-8804-F9C094DF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46E2-D36B-4CDB-9DF5-02F11044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F01-A52A-4EFF-A4C2-481DC08E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50C-10F9-4E06-B667-05CBCC3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0F5F-F130-463B-BCE9-4BBA3452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C16-E644-4448-95C8-D32DE96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368-D7BB-4934-9B9C-CBC6436F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FF3-9D58-47F4-95B9-6C74306C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2D9B-1A2A-4714-BD2C-3F266126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2040-4304-4FCD-A7CC-24EF79435E6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56DB-B349-4EFD-9FAC-404E5390BD7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对大学图书馆支持教学的思考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以加拿大多伦多大学为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Picture 5" descr="c:\users\zhaoran\appdata\roaming\360se6\User Data\temp\t0108b6d9e2113310f2.jpg"/>
          <p:cNvPicPr/>
          <p:nvPr/>
        </p:nvPicPr>
        <p:blipFill>
          <a:blip r:embed="rId1"/>
          <a:stretch/>
        </p:blipFill>
        <p:spPr>
          <a:xfrm>
            <a:off x="1116000" y="1916280"/>
            <a:ext cx="7343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六、我校借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教务处或者教师发展研究中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教学评估（购买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人文环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类垃圾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移动桌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校过去历史的展示（参观校史馆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5" descr="c:\users\zhaoran\appdata\roaming\360se6\User Data\temp\t019656ce69bb3ddf08.jpg"/>
          <p:cNvPicPr/>
          <p:nvPr/>
        </p:nvPicPr>
        <p:blipFill>
          <a:blip r:embed="rId1"/>
          <a:stretch/>
        </p:blipFill>
        <p:spPr>
          <a:xfrm>
            <a:off x="4284720" y="2637000"/>
            <a:ext cx="4859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一、图书馆介绍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4360" y="1773000"/>
            <a:ext cx="792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加拿大最大图书馆：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校区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多座图书馆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0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万册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服务对象多：本科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811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，研究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44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，国际学生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%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，来自美国、中国、印度、巴西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国家和地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员工精悍：图书馆正式的员工有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服务层次深：多层次、多角度支持大学的卓越教学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ahoma"/>
              </a:rPr>
              <a:t>从学校、院系、个人层次提供各种咨询、支持和评估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二、学校层次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校长教学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多伦多大学教学最高荣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奖励三类人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持续从事卓越教学的教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教学进行认真研究的人员（如教学法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将教学和科研结合在一起的人员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" descr="c:\users\zhaoran\appdata\roaming\360se6\User Data\temp\t010179778908df8fcd.jpg"/>
          <p:cNvPicPr/>
          <p:nvPr/>
        </p:nvPicPr>
        <p:blipFill>
          <a:blip r:embed="rId1"/>
          <a:stretch/>
        </p:blipFill>
        <p:spPr>
          <a:xfrm>
            <a:off x="6300720" y="1773360"/>
            <a:ext cx="2843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二、学校层次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校长教学奖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6920" y="1773000"/>
            <a:ext cx="81280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持续资助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年，每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万加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校教学委员会成员，为校长、教务长提供教学建议、教学战略规划、教学相关政策，提高大学教学质量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每年开四次会议，其中校长必须参加一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三、院系层次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多角度支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图书馆和院系在学科上对接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培训学生助教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7" descr="c:\users\zhaoran\appdata\roaming\360se6\User Data\temp\t01b3cdf88df2060af4.jpg"/>
          <p:cNvPicPr/>
          <p:nvPr/>
        </p:nvPicPr>
        <p:blipFill>
          <a:blip r:embed="rId1"/>
          <a:stretch/>
        </p:blipFill>
        <p:spPr>
          <a:xfrm>
            <a:off x="3780000" y="2637000"/>
            <a:ext cx="53640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、个人层次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多方面支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4000" y="1773000"/>
            <a:ext cx="845964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对老师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一对一帮助。如帮助老师提供作业布置和完成的方式；为教师提供工作坊地点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集体帮助。如强制培训，对新教师进行教学基本功培训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年时间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工作坊至少要参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核心工作坊。还有高级证书培训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年时间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工作坊至少要参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个核心的。学习课堂观察；熟悉教学档案管理和使用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四、个人层次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多方面支持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4360" y="1844280"/>
            <a:ext cx="8270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对学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对新生大规模培训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在线咨询服务（有文字和视频说明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学生学习和科研（图书馆）提供全方位支持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5" descr="c:\users\zhaoran\appdata\roaming\360se6\User Data\temp\t016622a4d4a9865dbf.jpg"/>
          <p:cNvPicPr/>
          <p:nvPr/>
        </p:nvPicPr>
        <p:blipFill>
          <a:blip r:embed="rId1"/>
          <a:stretch/>
        </p:blipFill>
        <p:spPr>
          <a:xfrm>
            <a:off x="7020000" y="1844640"/>
            <a:ext cx="212400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五、课程评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——</a:t>
            </a: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全面服务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8000" y="1844280"/>
            <a:ext cx="867564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可定制的在线系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提供给机构、院系、部门、教师的教学评估报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分三个部分：总体情况、基本描述和定量分析、横向和纵向对比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c:\users\zhaoran\appdata\roaming\360se6\User Data\temp\t01660ce35077f2d7bd.jpg"/>
          <p:cNvPicPr/>
          <p:nvPr/>
        </p:nvPicPr>
        <p:blipFill>
          <a:blip r:embed="rId1"/>
          <a:stretch/>
        </p:blipFill>
        <p:spPr>
          <a:xfrm>
            <a:off x="3203640" y="4005360"/>
            <a:ext cx="5940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六、我校借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844280"/>
            <a:ext cx="8559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学校方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设立校长教学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新图书馆使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增加学生讨论、展示空间，而不是自习室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增加图书馆和学院联系，如助教培训，学科负责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7" descr="c:\users\zhaoran\appdata\roaming\360se6\User Data\temp\t019ba4649ca6c7d26f.jpg"/>
          <p:cNvPicPr/>
          <p:nvPr/>
        </p:nvPicPr>
        <p:blipFill>
          <a:blip r:embed="rId1"/>
          <a:stretch/>
        </p:blipFill>
        <p:spPr>
          <a:xfrm>
            <a:off x="3780000" y="1773360"/>
            <a:ext cx="536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3T06:46:40Z</dcterms:created>
  <dc:creator>dingzh</dc:creator>
  <dc:description/>
  <dc:language>en-US</dc:language>
  <cp:lastModifiedBy>Zhaoran</cp:lastModifiedBy>
  <dcterms:modified xsi:type="dcterms:W3CDTF">2015-09-16T14:56:23Z</dcterms:modified>
  <cp:revision>195</cp:revision>
  <dc:subject/>
  <dc:title>农村子女外出务工对 留守老人的影响</dc:title>
</cp:coreProperties>
</file>